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329-1CFE-4F13-9FEF-0459CACE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DF2-EFE5-4B51-B233-A49E466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7E2-FC73-400A-AA59-CE0227CC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862-E298-4859-AAC5-62AAC18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7CB-A029-4940-AB50-4053C89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0C6-19C1-4AAF-BE47-3027E2C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A0F-3095-4C5F-828C-1397C8CB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16C-BAA8-4726-9322-B16C61EF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F30-FE27-41DD-91FC-89A1254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DB2-3C16-4781-B028-0BA0050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AFC-9CE5-4B31-BD77-98BA4E9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A9C-1570-4B52-BB7B-329CA9E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930160" y="95400"/>
                    <a:ext cx="158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38360" y="1634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11A48-EE20-4165-92EB-F8C0A29B87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Divorce in Canada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84360" y="2890800"/>
            <a:ext cx="2625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op 10 Ways To Protect Your Ki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lk to them about the separation (keep it simpl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discre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main in their liv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al with anger appropriate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a good par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nage your mental heal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eep the people your children care about in their liv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op 10 Ways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 like grown-ups (keep conflict away from kid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thoughtful about your future love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y your child suppo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(Source: Kelly, Joan. (2009) 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“Dr. Joan Kelly’s Top Ten Ways To Protect Your Kid’s From the Fallout of a High Conflict Break-Up”. www.cbc.ca/documentaries/doczone/2009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38% of marriages end in divorc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Peaked in 1987 and now stabl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 There are regional differences (highest     in Quebec, lowest in Newfoundland/Labrador)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Effects of Divorce on Childre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84360" y="2890800"/>
            <a:ext cx="2625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mportant Points to No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Experts disagree, so there are no definitive answers, but there are som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common threa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hildren's self concepts are affected not so much by family structure but as by the </a:t>
            </a:r>
            <a:r>
              <a:rPr b="0" i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quality of familial relationships</a:t>
            </a:r>
            <a:r>
              <a:rPr b="0" i="1" lang="en-CA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Living in a 2 parent family with unresolved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tension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and alienating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conflict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can caus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reater stress and lower self-esteem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, than living 1 parent in a non-conflicting, supportive environ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Wallerstein and Blakelee consider a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ood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mother-child bond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to be the most significant factor as most beneficial to children's development, while parental co-operation and competence and the maintenance of ties with the non-custodial parent are also very importa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hildren MAY experience the loss of their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identity 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s a member of an intact family, along with the loss of daily interaction with one of their par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t school, they MAY suffer from th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stigma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of being from a "broken home", although this is lessening and terms are more sensitiv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re MAY b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economic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challenges (a significant negative impact of divorce) therefore less educational opportunities (music lessons, camps, etc.), perhaps limiting access to things, limiting the ability to get basic their needs met and/or perhaps moving to a lower income are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50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During and after divorce children typically feel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uilty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depressed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anxious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(Kelly, 1980)  "If I was only a good kid, then my parents wouldn't fight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Girls raised without a father MAY begin premarital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sexual activity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earlier and have more difficulty relating to men (Gerrard &amp; Kinnaird, 1986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Anger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plays a significant part in the psychological adjustments of childre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385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Children of divorce tend to be "underachievers" in educational and occupational pursuits and may have more issues during the teen yea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Wallerstein's longitudinal study of 131 children over 10 years, showed that girls seemed far better adjusted than boys in the early post-divorce yea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50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2f1311"/>
                </a:solidFill>
                <a:latin typeface="Arial"/>
              </a:rPr>
              <a:t>Young men are PRONE t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lashes with the law, school officials, teach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Parents report "uncontrollable behaviours" and disciplining has little or no eff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ggressive behaviour tendenc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rop out of school or pronounced fail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isown" family and turn to friends/gang as fami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evelop apathy and inability to see hopeful fu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f Divorce by 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2-5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 Fear of abandonment, sleep disturbances; parents should explain that parent will retu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5-9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 Displaced, grief, school difficulties; parents should discuss fears and keep contact with both par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9-12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May act out, conflict with parents; parents should show patience and lo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13+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Relationship failure, independence, more likely to be promiscuous; parents should communicate and encourage positive relationshi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el District School Board</dc:creator>
  <dc:description/>
  <dc:language>en-US</dc:language>
  <cp:lastModifiedBy>Customer</cp:lastModifiedBy>
  <dcterms:modified xsi:type="dcterms:W3CDTF">2011-01-12T16:11:08Z</dcterms:modified>
  <cp:revision>10</cp:revision>
  <dc:subject/>
  <dc:title>An Overview of Divorce in Canada</dc:title>
</cp:coreProperties>
</file>